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4F79-802C-40D8-A2F2-2221C9D0C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740B-DD7B-4FB3-9138-0CC60AC6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A38F-6832-4275-8452-B9359E804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AF51-D4B1-4598-8311-7A31E555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3BE5-55D6-4F54-A881-38209031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77EB-A450-4341-A078-E15321F6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D486-43C9-4921-B9A5-B53F6EBA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9CC0-1AD7-401D-AC8B-E3C0F2A8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0D18-67B6-4CD8-BA97-D0767D0F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E785-F732-430F-91A9-CA68D693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E028-0032-4595-B3A3-2188D130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C235-A196-4584-97EE-F508D01D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403D-1665-4F1F-B7A5-F67E17BC2EE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8901" t="0" r="-313" b="0"/>
          <a:stretch/>
        </p:blipFill>
        <p:spPr>
          <a:xfrm>
            <a:off x="179280" y="187200"/>
            <a:ext cx="8785440" cy="6612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903000" y="6165720"/>
            <a:ext cx="156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CD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-480" t="40994" r="81352" b="6000"/>
          <a:stretch/>
        </p:blipFill>
        <p:spPr>
          <a:xfrm>
            <a:off x="900000" y="333360"/>
            <a:ext cx="7417080" cy="626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1360" y="260280"/>
            <a:ext cx="481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La table paramètres englobera toutes les tables de paramét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-753" t="0" r="-34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00760" y="4302000"/>
            <a:ext cx="18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PD_CakePHP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3T08:18:05Z</dcterms:created>
  <dc:creator>ANTHONY SCHLEMER</dc:creator>
  <dc:description/>
  <dc:language>en-US</dc:language>
  <cp:lastModifiedBy>ANTHONY SCHLEMER</cp:lastModifiedBy>
  <dcterms:modified xsi:type="dcterms:W3CDTF">2007-07-03T09:22:53Z</dcterms:modified>
  <cp:revision>10</cp:revision>
  <dc:subject/>
  <dc:title>Diapositive 1</dc:title>
</cp:coreProperties>
</file>